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890E-A222-4994-B915-97D53712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4AF6-4552-49C3-BB84-0E010037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942C-033F-4425-81CE-51C3BEBF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744B-9475-4C1C-8855-B5983DE8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F406-58EB-41E2-BAF2-6304A9A4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FDC6-7580-4F81-A0BC-B93278AA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F21A-EEE3-4C25-B49E-15B7D68D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628A-2633-4A98-9948-C5784BF0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F7C1-DE7E-4DE1-B478-C3A179FD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C42D-E7EE-4109-9E65-D25D0FAA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CBEE-1D9B-4102-BF63-0D7636EA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FCAA-1AF5-45D5-9C7C-EEB1D4A1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96E7-BCFD-4AEF-A24E-92E3A1D00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THE STUDY   QUESTION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467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15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5T14:17:13Z</dcterms:modified>
  <cp:revision>94</cp:revision>
  <dc:subject/>
  <dc:title>The Art in the State of the Art</dc:title>
</cp:coreProperties>
</file>